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2BE2-A94B-4CF3-9B55-88803D7F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93D5-E56C-492A-8FB4-C19AD1D1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A946-5B1A-49B6-B125-7585B3B8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3B24-7617-41F1-92F0-FC14FD6F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7B93-1DAC-42D3-9910-3CE61754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7326-68CB-4287-9543-6AC02AC2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1AB9-E597-49EB-A6D0-BBFB05AF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0920-59B5-4688-80ED-3D1D48A9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2A79-B918-41E5-9CCA-F2B819E5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8C6-C6EF-4FBD-83D0-C7DCA960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578-099C-4981-8C36-9D2FA655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673C-6292-4A0A-99A1-7987B5B9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8D9B-61AD-49AF-973A-6C671522A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bringing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400" spc="-1" strike="noStrike">
                <a:solidFill>
                  <a:srgbClr val="000000"/>
                </a:solidFill>
                <a:latin typeface="Arial"/>
              </a:rPr>
              <a:t>spreads</a:t>
            </a: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traced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wiping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gliding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grabbed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excited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faced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talked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stacking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shopped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yelled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lifted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rested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9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300" spc="-1" strike="noStrike">
                <a:solidFill>
                  <a:srgbClr val="000000"/>
                </a:solidFill>
                <a:latin typeface="Arial"/>
              </a:rPr>
              <a:t>early</a:t>
            </a:r>
            <a:endParaRPr b="0" lang="en-US" sz="3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0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stinks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400" spc="-1" strike="noStrike">
                <a:solidFill>
                  <a:srgbClr val="000000"/>
                </a:solidFill>
                <a:latin typeface="Arial"/>
              </a:rPr>
              <a:t>friend</a:t>
            </a:r>
            <a:endParaRPr b="0" lang="en-US" sz="2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9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5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2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mask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mast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2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pack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00"/>
                </a:solidFill>
                <a:latin typeface="Arial"/>
              </a:rPr>
              <a:t>slack</a:t>
            </a:r>
            <a:endParaRPr b="0" lang="en-US" sz="2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jogged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6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2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700" spc="-1" strike="noStrike">
                <a:solidFill>
                  <a:srgbClr val="000000"/>
                </a:solidFill>
                <a:latin typeface="Arial"/>
              </a:rPr>
              <a:t>plunked</a:t>
            </a:r>
            <a:endParaRPr b="0" lang="en-US" sz="1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Arial"/>
              </a:rPr>
              <a:t>hummed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8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kippe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300" spc="-1" strike="noStrike">
                <a:solidFill>
                  <a:srgbClr val="000000"/>
                </a:solidFill>
                <a:latin typeface="Arial"/>
              </a:rPr>
              <a:t>spotted</a:t>
            </a:r>
            <a:endParaRPr b="0" lang="en-US" sz="2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lamming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4:36:51Z</dcterms:created>
  <dc:creator> </dc:creator>
  <dc:description/>
  <dc:language>en-US</dc:language>
  <cp:lastModifiedBy>Laura McDow</cp:lastModifiedBy>
  <dcterms:modified xsi:type="dcterms:W3CDTF">2010-09-02T15:15:25Z</dcterms:modified>
  <cp:revision>22</cp:revision>
  <dc:subject/>
  <dc:title>king</dc:title>
</cp:coreProperties>
</file>